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A54-7332-4D94-B3DC-CBAADFA2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DFE7-C78A-4866-9F9A-68347A74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F528A-90CC-4D0B-BDF7-ACD83E5C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3C1D6-FA2E-4994-A9E6-BF4E64DC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C8D31-C0FC-4174-A5ED-C020FDA6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1CD53-F985-40AA-BD61-8839C6A6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3EA9A-4549-426D-8355-5E9EDAB4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3C408-CC63-4E58-B604-53155421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9864E-FB33-48FD-90D3-16925687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B75F0-7563-4D81-B9CA-47F5E0D2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2E5D5-FDB2-45F6-AD49-F673A350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3771A8-57E5-4A0F-9BE6-AEAFC03B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1B8D-F768-48D1-9128-1B9211F7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2C78C0-732F-43F6-BD6F-9D749830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57F125-6B66-4FF6-A898-65E7DA51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4F701F-AA18-49CB-A103-AF9B360B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B6916D-C76B-4E9F-9B8A-2FA58571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3B3A7A-44FA-4D15-B6F4-C36ED4BC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0F498B-BE88-4050-A222-F5211186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45E79B-090C-4386-A86D-1038F443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8978C1-C50C-4B26-9CD5-DADB5EC7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E87C7C-7330-474C-91E3-F4742AE3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B987E2-D675-4F93-A9B0-D4B3A02D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3CB-9E93-4838-9982-FC84C51B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6DA557-F5CD-4D77-9643-CE8929E1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FC019-CC8C-44EA-9DC3-16432224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D91C0-DB64-4362-A7E0-CDBE2F00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D4169-DE1E-4EC6-8C88-08D15134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7DF82-DE2A-4362-8530-41573BFC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0645B-8929-401E-AF55-97D67D6E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81E2D-DF7B-4B93-90F2-0C47CC9B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C4661-9A59-461D-957B-3C58E67B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B45B2-5DD6-4E2D-B069-2CE462BD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CD422-2566-4993-9FBD-6699EB97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39D8-37DD-4EBA-B79A-3972EDF4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4E201-DC5D-4A14-9C1D-DD54E43F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CD335-BDE9-4893-B835-F6685C85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F2274-5470-4FB1-B791-B13FFB3B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9D0FD-7757-44FA-9C06-DA81B508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74DC3-D987-4F91-8D8F-88208A68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51664-1BB9-47D7-8013-C7252F15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69A00-05BA-4E11-9437-A21AB383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8211E-D529-4EBF-84AD-D1CBAC42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C3F51-7644-4FDE-9D4C-174847D4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4D93B-4570-41D5-83E6-4CF11943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C3A9-4D01-4B59-A479-54E5B84C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4FB40-D2D7-4FB1-AFFF-78265A3A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458E6-0F5D-48EE-86E6-26DC8F32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861FF-1ACB-4BC5-9BA9-50D6F2CD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8D7A3-9D34-4271-B68C-A310FB08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3C37B-D095-4039-8F90-F5D197A7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4170-28FC-4C8C-B8F2-9114A64A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525E-FF0B-4F1D-81F0-91C52E8C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428D-E813-4949-84D0-56511874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7E55-5EEA-4FB5-BBB3-05D73F93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89C1-AD0E-4D66-888C-F15FCFD0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313A-A59D-40AA-AF6C-ECF934DA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B7EE-457F-4F10-8643-505F9E38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728A-8735-4D47-A469-B4ECB26E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09E3-CA1F-4686-9C5C-34BDCBAD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EF79-4AF5-43F8-B295-E04E3924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1A94-6BFF-4B7E-8355-C23894C6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BA803-FBEC-4A99-AC65-645689ED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777AD-1751-4EEF-89A4-A730EE01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B322E-7108-4EBC-A405-CCFC766E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8C9D0-8B3C-4D10-AA36-40CDB77D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46E10-5AC1-4D1F-B85B-E90D038B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690-EE90-42D1-8BA1-5A7A2CAE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CDE2F-2360-491E-82BD-3074B632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FDCBD-A640-427A-9E87-DD5803FB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55E21-3D74-4397-A324-B7A5F93B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12C42-4F7D-4D5E-9149-E8C91643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409CD-1908-435C-88E6-7B2B049E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82F20-72AB-436B-B72F-501CF137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ABF13-1A1F-426A-8AAD-878652CE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EE718-CFB2-487C-B4FD-21F2642C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9F8B1-B651-4D0B-A2AD-6BB70AA3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594A0-8F63-4375-80C2-CE091E51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F9D-F614-4D4C-9857-C90DFA90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97A07-F016-4446-84BB-01E2AF54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98E01-17C1-494E-A50A-6EBDCAB5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195DA-D31D-4522-B396-5741C24A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8084D-96C5-45B0-8543-226A2109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D1CC3-0266-43D7-AF37-9ECBC276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661E2-05B6-4CD5-83C5-811D59F8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AE4F7-317B-4405-A883-AFA0AA64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73955-B495-4392-A71E-02830E3F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239C1-10B5-4AE5-9E33-5A101FF8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76066-3534-4F37-B124-83819D65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B9B-297C-491C-865B-C395D079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E8CCE-6BE3-4352-91B2-5254409C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465C8-1DC7-48B0-B4E0-419A7E87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5F1107-DA17-407A-B8C4-029C17F7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39A6AF-E2C2-457A-9F7F-82FEE494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807B8-0916-478C-81CB-717346E8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C87D8-3212-4A46-A587-B7DD6257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3926E-1A7D-47CD-BAF7-350FB069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79C6D3-70E8-4BF0-89AE-8EA33841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6E9142-3B37-4B71-AD4E-759F1E22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E95831-578C-4786-B886-8BDC7F1D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660-2E5E-4D16-AC57-0F2F8B96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9D974-9D9F-4423-8C26-42F39C41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2B64F-6577-4EB1-88DD-B4D7273E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CFD90-7D51-4643-A511-16D9B703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0BB9D-5644-46A0-803E-618C803C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93BE0-41B4-4311-B8C7-8B572724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F3DD1-1F91-45E5-8189-54250DBD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78059-9E02-46BC-ADC6-2AFDC506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2B7D5-61F1-4E02-B398-46F5122E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03CFF-BFA2-437C-9036-0EA872D0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CAC87-4ABB-45AD-AA39-1D9DE27A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5B5-C647-4EA0-94CC-DFCB26C6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21C9F-28AF-4E04-A1E4-47CCDAB7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091DA-0F3B-46BC-8979-B648CB59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00CB6-CB54-46FD-882D-1F46995A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A7E3B-ECB3-442D-A42F-35FD234B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1DEFA-B305-4A0D-B44F-14B040A6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F8FCB-6BD6-4D06-822F-49A622EA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41636-27B3-4ABC-9CBD-68C7AD19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469A9-C2BB-4763-923D-5090EAE4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90D63-CE22-4C63-A711-F89D375F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442F6-B6AD-4B7E-9BAB-848D1100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DD7-DB34-41FF-A7CA-BEF5ACD0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B100D-2366-42E6-9485-CBDC58A5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69EE5-1FE6-4119-8381-32AFFBB1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07A32-A9A0-49B9-B05A-1C75DE87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65C28-E6FD-4E45-8DB5-37A2B1C7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A82C1-B102-4CDD-B509-C565B4F2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92EE0-B0D6-4CFC-92CC-0D3A3B70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83E4B-0B7A-4B3E-A761-DE8C5BB8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5A61B-1930-4483-8CC9-6F13C3F8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D6D9C-F128-42F4-B011-BF7CDF99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9D6E6-DCBA-4DB9-8ECF-01A67FDC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F67-6791-4454-8927-2495BF3C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5D3B7-88BF-40AD-A1F3-206A858A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879AE-F07E-44C3-9245-27A35A7F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77190-7C5C-4F0A-A89D-FC7F48E1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2A062-2D3C-4E08-AB39-E7BFA94D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3D67F-602B-4547-8AF2-4A89FAE1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7F044-E252-43BF-A374-AD33AF64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476CE-0895-4BA0-8B3F-F994E50E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4B4BB-1F7A-40F7-9011-268554BD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8AB62-7243-4EDB-A8A4-3A406682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BD555-0F76-4860-A82D-04DDB099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013C-E9B5-419A-A845-837E923F38E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2B45-9077-4A06-ABBB-378FFDDC1F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0DA3-7150-437F-805C-CB5A8A1CEF5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9670-5192-488B-8C29-8CDE7718F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1F1C-0B8F-46D7-82F1-3A6924BE576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EAF2-C70F-474D-80B6-3B77D19A4D0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2A6B-D497-40E2-8FAB-0FCA6335025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D0CC-3F8C-4AEC-9B44-0959A230FE8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40AB-3E8B-4ABE-A0D2-C89979356EE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4338-B264-4F5C-863F-B984E2B45F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C997-6ED3-41E5-AAE9-2D41751A7A4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7ACF-4C28-4552-93F5-46E644A1D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E884-8161-435B-A761-BD46C3D8320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6F75-27EC-4196-8672-8DA56D1CB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88CC-AAA3-40BD-9118-4C40B41349A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D08B-6C93-45E5-BF89-0D3ED75EFB0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F830-6984-4B6C-A705-287434BBFC0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E394-06EE-4730-A788-5E8757E1427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99A6-4C50-4689-9846-71F11B60115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0090-EC85-416F-97EA-219B027CAF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430F-9BBF-4890-B7B0-FF141769169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4D3F-A261-4890-BAB3-CA88AA507A7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CC63-4277-40E4-9100-A776A7795A2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592B-2B04-4750-AAF6-DD6B3532F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BC1-4D63-4881-9414-0C3834DC00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5A430-B47D-4871-B503-62F27A3E975D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B90C5-9A1B-48C8-AFB7-E81ECF391C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F366D76-5793-43E2-9811-B0B7B69EAB4A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3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261B2-D369-4B3E-A9E7-AA19C50ED0A0}" type="slidenum">
              <a:t>3</a:t>
            </a:fld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75BD6-FA08-462D-BE8E-5116BBACF19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8DC71A1-EAF8-4757-A0D4-A413A1F97BE9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E2034-FDDF-465D-803D-46AB104C65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58F4076-0D83-4BF3-A2A2-E88D32534C8C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5B5B7-ADE1-46FC-B026-D7AA2ACD36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0F337BD-25F5-47D5-A456-47CACC94A998}" type="datetime1">
              <a:rPr lang="en-US"/>
              <a:t>07/30/26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