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A1ACA-7E7E-43C1-A1AE-152FC7C01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87A4A-2EBB-4329-A4AC-2A24DADA7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F20CB-4CB8-4481-89FD-5112ACF2A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5EC50-D667-4AD3-816C-D1CC074CB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3B178-64DE-4F58-9EC7-258D697F7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0B509-4F4C-4836-AEAB-71D26C2AB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8A464-9607-45D7-90BE-578ED1A71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89ECF-56DA-45F5-9D2D-37F9B5F8B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62E30-C696-4DEC-A96F-73C62D356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8ECFC-E3B5-4A5C-B473-4F8B1FBB2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AD87C-016F-4DFE-8D8F-AB9151919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B72C9-DB22-43A9-A82E-AB090D2F6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3D8D4-482A-4D9E-8981-CF2AD204BCB8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3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5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7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9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1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3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9"/>
              <a:gd name="adj2" fmla="val 49994"/>
              <a:gd name="adj3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5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5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4"/>
              <a:gd name="adj2" fmla="val 49994"/>
              <a:gd name="adj3" fmla="val 499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7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50000"/>
              <a:gd name="adj2" fmla="val 49994"/>
              <a:gd name="adj3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00:13Z</dcterms:created>
  <dc:creator>tb121644</dc:creator>
  <dc:description/>
  <dc:language>en-US</dc:language>
  <cp:lastModifiedBy>tb121644</cp:lastModifiedBy>
  <dcterms:modified xsi:type="dcterms:W3CDTF">2005-05-25T09:04:25Z</dcterms:modified>
  <cp:revision>2</cp:revision>
  <dc:subject/>
  <dc:title>Slide 1</dc:title>
</cp:coreProperties>
</file>