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  <p:custShowLst>
    <p:custShow name="Custom Show 1" id="0">
      <p:sldLst>
        <p:sld r:id="rId15"/>
        <p:sld r:id="rId18"/>
        <p:sld r:id="rId16"/>
        <p:sld r:id="rId17"/>
        <p:sld r:id="rId19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0F466-A07D-4E53-A942-E56623D8F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D8EE2-AC5F-46F9-ACD1-71300DAC7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A7EFA2-36B8-4BB4-A091-5CDDFB0AF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840568-C941-4450-A001-87FB18F3A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1E938B-984D-447B-8F86-E87238726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E00F32-0049-45B3-96DD-38FAA2177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CA3B3B-9376-4605-8F25-5401A1D39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A92653-7DEA-454D-9960-7D3F54363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0F8BCD-A77E-49AC-8DCA-BE3E46023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E5CDD6-365F-434D-80D0-0E9AF1261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021C3E-C3C2-429A-98F8-E0BB723DF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F42C045-2598-44D4-9470-41C5AC43C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9BA90-9435-454A-A5FB-DE04AEA44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B922FBA-9AA3-4525-ABCF-3EF7108EB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559746E-2E3E-4384-8BD7-488CD38C3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59D9154-384B-4AC9-BA17-BBBC0AF0C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F725CDD-2E04-4CAE-9999-83333FB2C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046D457-2DF5-4E26-A5FA-6889F2C88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AD33573-C08C-4DAF-B9A7-E6A73B5B5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A86B118-1121-4FE5-9488-E9AC62213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D6F3F8C-FCAF-47B1-BA72-DA890CB21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BBD85D9-C3FB-42DA-A7AA-B6076A24E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B5FD9D3-70E9-4267-9364-8E60D8F8B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3DC0F-8421-46BD-80BD-C38DE67DE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FB9FDC7-8C52-4046-B091-CEA02A60C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10835B-9068-49C1-BDF7-A1D9064DF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FFB0D6-0071-4843-9B5E-271DBFFA5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3196E9-2B20-4386-B03E-9EB314EB6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DA5D4E-6ADA-4C80-8954-93BDB4B23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BC0263-8888-4895-A9C1-D34197F01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640041-73D5-4AB1-BF4B-E4349357B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4B91A5-8095-4E7F-B94C-32B7DB888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71CE80-FBF1-471C-A72A-EAB94EDD5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AE4E42-3E6F-4980-B08D-99787A501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DAF25-5B50-4B29-82D8-522A4C3EB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1009C3-F6C5-41F2-B95B-279B672B5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A47AE4-4400-4B95-8795-436745E36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E18C27-D083-40AD-99B9-1F3C874D0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AD3F54-7965-4AB0-A189-E7236AB0A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03DF4E-774C-46E4-BEB8-F323E6665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29A9E5-CED8-4ADB-8B74-B19653117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212960-547B-4A8B-A3A5-CBE5CD8CB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258F9D-329E-4F8B-B4D6-B39CAF0DC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FB8E90-331D-4A36-BC2B-35BEC9F40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4CC085-8C16-46E4-B106-7E878C874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0A08D-E6B1-4CB8-9E75-6E06B6DD6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F7FAA9-0299-411A-959D-A208B9D49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06CA08-A328-4CA8-B7E1-10979BFF9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33FD05-AAB2-474D-8D85-07FAB18D3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2E4684-3452-4AD7-B598-4AE93F98F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BBA873-41A3-485E-B559-9E4CBE2D7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3EF98-2DF6-4969-94E0-5BB77F096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65433-5A90-4327-BB28-61FAEAC2F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89F84-F8DE-4D97-90E5-033C17EC5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03624-BD64-4E10-86D8-E39626765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C4C55-CEA4-4D5E-9405-5C2072D9B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C9596-A743-44D2-9E75-A59EFE573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05627-9337-4ED7-BEFF-3A869D04F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CBD54-1F82-438E-B25C-6931B962F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91F0A-5176-436B-AE0B-D41FE32FA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EE35C-1E43-4CF5-A7F4-5A09DEB3F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F1593-FAEA-4684-A572-430EBB486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B000E5-0D19-4667-9242-1FF3A229E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42A723-FFB2-4500-B4B0-BFDCEB10E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99DFCC-4DEB-4693-BFFC-23DA993E8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0CFA50-C4A1-416D-AB21-FACA14CBF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5B3560-887D-481F-88B3-B099F27DD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E19AC-0C75-47A1-A9C8-B6AB8F89B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6598C8-3957-4DDF-AA08-5D393DB28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595B07-B969-43FB-917D-8BB23186C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F41F96-F22F-4BB2-AAC4-DA6F54305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9AAA1C-5692-464E-8779-FE0B00D7E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6BA4E1-0CFB-495E-870E-2DF22A9BA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35954E-BE28-4323-AC38-3F8A3EF83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0AB6C8-EF7C-47C7-9E43-A2154AC25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71D599-E14D-43C9-99E0-DB40333BB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10500C-66B1-48B8-9B48-E814F7A5A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D98376-BE00-4E22-A500-7F40DF568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42E86-CC18-4CB2-89FB-70B04A376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D9E5F7-9122-44C2-ADAF-ACB6A90FC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B8272E-922E-47B3-A83B-814544E87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B87776-74CE-4893-B01F-82080057B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996B2B-99FA-4DCA-BD4A-266637772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8AD436-5A85-4AC0-9CDD-BBD516DBA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7E2366-CDC9-4B9B-9759-E335D2F2D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75CFD2-12CD-49F2-B12B-17CBED66E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26037D-B23C-400E-AC08-8CA2607F9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F2ADFD-B01C-4248-9ED3-B3C3536D5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4CDA6E0-B13B-45A4-B434-1F5125B46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152D1-5DD7-4998-9576-D801AD558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0D16429-465F-4E1D-B37B-1C252F66E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0836A56-A330-49D0-BE94-000F2CA7E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CA73C8D-1078-4299-847A-1176AB9E1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FD21EC0-0372-4CEA-AC69-4C1A33A44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D6E6CF5-ED7C-41E9-9EF9-0CFEC8C30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0D089CB-C0BD-41B8-BD8F-3859B0243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4A9D196-690B-4C23-823E-722BF1F56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0458A9F-627F-45AA-A0A8-3C66CE6F0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F13773C-94D7-4F46-BBF6-EBD1A54BB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6295D78-CFAA-4D6B-A121-7B47F2750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A4743-4623-4AB1-94B5-B5E9D20BD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E8E43A0-9DDB-4F33-AFEE-6290B37BB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D88D21-195E-4946-A281-51E69CC73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705A63-14F3-4023-BB7C-263CAF2FE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56B4A9-037F-4A26-A5C8-51A4EC758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261740-5178-49C0-8FC2-E3674DA5B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640DB2-829C-423F-9021-88587D2C7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DD5C8E-6AC1-4B6E-BD39-F29A602D1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C41E5C-9D58-4CED-8775-3554A9583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302FAC-99F8-44B2-99EE-05207A108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3AB304-BB2B-47F4-B322-CE09FCE24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4FCE5-B1E2-49E9-AC8F-2499B2466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C2E4E8-3252-4A63-A28E-88374BD68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6252BA-BCAD-40B8-B139-3FF9C4969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85DF52-074B-49FE-9762-EAB61BB13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749619-2943-4A71-A31F-0EBC38343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AC9241-BCE8-41F0-92A5-3EC8E6E89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B8B31B-3BC5-474A-9E02-65F1ECD29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94A842-EFB8-46C9-9DB1-E5148ED93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88C5C8-7776-46F8-A8AE-026FD2089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C9E534-394B-41ED-8F59-74FF57BA1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30B38D-AF24-45CC-9817-DCA9219A4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C4B87-A068-4EDE-9BB1-61565BFC9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BBEEA7-2535-42BD-A9DB-CF94AEC25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8491F3-5610-475F-B7A5-00372ECFD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18E7C8-9FB0-475D-BD12-79322860D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259E8D-27EB-4F71-8822-03A9D8250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C4589D-7A8B-4DA7-BDC7-B7C579C2A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818937-B394-46C3-954A-85051027E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BCC873-BBB7-4538-A358-09B66308E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D24561-8EBD-4CE7-A83A-E1CD7E3A1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5601EE-25D3-4697-8F51-82B901293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86C2F2-5A24-4408-AF7C-470BDE15C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3E77F-90F1-452B-9762-9F41C49C0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C6AC12-A8D9-4155-8E00-AA9C24334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86E016-020B-4CEA-8188-369417602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FD347A-11F4-4837-8B27-61096CAF1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3C8C40-EC91-40F2-BB59-9B96612ED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999B3E-06DE-491B-9C28-6EAD25766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CBCAB6-1207-459F-95DE-AEFC67819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94E8D6-1419-4BD9-B2EC-5892450FD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576ADF-9B1F-4AF8-B65D-F11F86A24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A4484F-8CFB-4C3F-B4CB-58B4B1FCB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661CB9-4519-4EE5-A861-C8ABBBA63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2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9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1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9E9B6-B367-450A-9032-F5AF30DB445D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4DCAB-6E66-4ADE-B52C-A63C7A5622B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7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018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0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1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022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23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024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29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0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031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2ECFC-0B45-49E6-B7AC-70D39F858E53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sldNum" idx="2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83E15-41F9-4E52-9243-99B467822B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3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07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340A8-B3D6-423E-940B-CE321CA71172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CDC77-A3B2-4004-9D30-0D1F4E73E0F5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4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135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919D6-50D9-49BA-8E97-4449D7AC9EDA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4FC57-BC64-4C62-809B-732DE8C5BD82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75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77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14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6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7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1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2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4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5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6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7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0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1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4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6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E893A-1A2E-4173-907B-375FC23C8598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B3766-BABB-4047-B985-01084FEE473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3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3B08B-27B6-45F9-93AC-DB02D5539AB7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5EDFD-0A27-4BB1-ACE7-40BC9C5CB5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9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19C3B-3630-49EA-B784-1EA95F3EA655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2CEB7-99F4-4B3C-9AA6-01E8AEFC53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49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BB500-C1A6-4BDA-9A22-B8D7A2D34C7C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 type="dt" idx="1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9AAC0-9844-45AF-877E-D76E41509D8C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1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512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5C84B-6F82-431E-B173-8988E0FD9859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511B6-565A-4CC6-AF30-DBC75FCAD71C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3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574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575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88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589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dt" idx="1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E8C95-2E44-4D7C-8D0D-A31082D4D3AC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48DF5-442B-4709-8FAB-C78772AD8E3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5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766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767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781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 type="dt" idx="22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3BF01-7389-44A0-B501-F0DBC4366C75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8C0CA-4CC2-4C1B-B457-2B2107E2E795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57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59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0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961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2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963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8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9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970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36CBC-9C03-4E14-9884-853F25445EE9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D04FD-4A2C-4508-967C-09B8D53229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berlin.de/buergeraktiv/content_aktuell.php?imperia_id=20051105.22263.html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66"/>
                </a:solidFill>
                <a:uFillTx/>
                <a:latin typeface="Arial"/>
              </a:rPr>
              <a:t>Berliner Zeitung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1" name="" descr=""/>
          <p:cNvPicPr/>
          <p:nvPr/>
        </p:nvPicPr>
        <p:blipFill>
          <a:blip r:embed="rId1"/>
          <a:stretch/>
        </p:blipFill>
        <p:spPr>
          <a:xfrm>
            <a:off x="1042920" y="4292640"/>
            <a:ext cx="2714760" cy="21524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2" name="" descr=""/>
          <p:cNvPicPr/>
          <p:nvPr/>
        </p:nvPicPr>
        <p:blipFill>
          <a:blip r:embed="rId2"/>
          <a:stretch/>
        </p:blipFill>
        <p:spPr>
          <a:xfrm>
            <a:off x="2052720" y="2567160"/>
            <a:ext cx="2712960" cy="21650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3" name="" descr=""/>
          <p:cNvPicPr/>
          <p:nvPr/>
        </p:nvPicPr>
        <p:blipFill>
          <a:blip r:embed="rId3"/>
          <a:stretch/>
        </p:blipFill>
        <p:spPr>
          <a:xfrm>
            <a:off x="3995640" y="3938760"/>
            <a:ext cx="2652840" cy="21873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1194" name=""/>
          <p:cNvSpPr/>
          <p:nvPr/>
        </p:nvSpPr>
        <p:spPr>
          <a:xfrm>
            <a:off x="1166760" y="5681520"/>
            <a:ext cx="2613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5" name="" descr=""/>
          <p:cNvPicPr/>
          <p:nvPr/>
        </p:nvPicPr>
        <p:blipFill>
          <a:blip r:embed="rId4"/>
          <a:stretch/>
        </p:blipFill>
        <p:spPr>
          <a:xfrm>
            <a:off x="5003640" y="981000"/>
            <a:ext cx="2714760" cy="21621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6" name="" descr=""/>
          <p:cNvPicPr/>
          <p:nvPr/>
        </p:nvPicPr>
        <p:blipFill>
          <a:blip r:embed="rId5"/>
          <a:stretch/>
        </p:blipFill>
        <p:spPr>
          <a:xfrm>
            <a:off x="5940360" y="2708280"/>
            <a:ext cx="2759040" cy="218592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4281A-AC35-4F13-A9DC-A910A0A8EF43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E3D85A-0B1C-475D-A458-7B0220E2A672}" type="datetime1">
              <a:rPr lang="en-US"/>
              <a:t>07/28/26</a:t>
            </a:fld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4" dur="1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7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3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9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Der Königlichen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Wel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98" name="" descr=""/>
          <p:cNvPicPr/>
          <p:nvPr/>
        </p:nvPicPr>
        <p:blipFill>
          <a:blip r:embed="rId1"/>
          <a:stretch/>
        </p:blipFill>
        <p:spPr>
          <a:xfrm>
            <a:off x="5796000" y="1484280"/>
            <a:ext cx="2857320" cy="4334040"/>
          </a:xfrm>
          <a:prstGeom prst="rect">
            <a:avLst/>
          </a:prstGeom>
          <a:ln w="34920">
            <a:solidFill>
              <a:srgbClr val="000000"/>
            </a:solidFill>
            <a:miter/>
          </a:ln>
        </p:spPr>
      </p:pic>
      <p:sp>
        <p:nvSpPr>
          <p:cNvPr id="1199" name=""/>
          <p:cNvSpPr/>
          <p:nvPr/>
        </p:nvSpPr>
        <p:spPr>
          <a:xfrm>
            <a:off x="3903840" y="4313160"/>
            <a:ext cx="412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395280" y="2060640"/>
            <a:ext cx="5473800" cy="37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40000"/>
              </a:lnSpc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Kompakte Reiseführer, Broschüren, Bildbände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Individuelle Stadtführungen zu Fuß, mit Limousine oder Bus mit spannenden Erzählungen.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Besuch in der Königlichen Porzellan-Manufaktur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Die Berliner Parks und Tiergärten Ideal für die Erholung zwischendurch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F930C4-57C5-4C66-B203-13A483AB908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fld id="{DC2CA60B-21E5-4BA6-80A3-22469A8B7BD2}" type="datetime1">
              <a:rPr lang="en-US"/>
              <a:t>07/28/26</a:t>
            </a:fld>
          </a:p>
        </p:txBody>
      </p:sp>
    </p:spTree>
  </p:cSld>
  <p:transition>
    <p:cover dir="d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9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3" dur="500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1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1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7" dur="5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1" dur="15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5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14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from="(#ppt_x)" to="(#ppt_x+1)">
                                      <p:cBhvr additive="repl">
                                        <p:cTn id="1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7" dur="2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8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  <p:to>
                                        <p:strVal val="-1"/>
                                      </p:to>
                                    </p:se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32" dur="5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1000"/>
                            </p:stCondLst>
                            <p:childTnLst>
                              <p:par>
                                <p:cTn id="135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136" dur="2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1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23640" y="549000"/>
            <a:ext cx="727236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buSzPct val="13374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en-US" sz="4400" spc="-1" strike="noStrike" u="sng">
                <a:solidFill>
                  <a:srgbClr val="000066"/>
                </a:solidFill>
                <a:uFillTx/>
                <a:latin typeface="Times New Roman"/>
              </a:rPr>
              <a:t>Bildmotiv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995280" y="1844640"/>
            <a:ext cx="41166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Oberbaum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iegessäu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Kurfürstenda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Gedächtniskir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chloss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Unter den Linden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spcBef>
                <a:spcPts val="601"/>
              </a:spcBef>
              <a:buClr>
                <a:srgbClr val="fee1a8"/>
              </a:buClr>
              <a:buSzPct val="9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3" name="" descr=""/>
          <p:cNvPicPr/>
          <p:nvPr/>
        </p:nvPicPr>
        <p:blipFill>
          <a:blip r:embed="rId8"/>
          <a:stretch/>
        </p:blipFill>
        <p:spPr>
          <a:xfrm>
            <a:off x="838080" y="1798560"/>
            <a:ext cx="2370240" cy="4133880"/>
          </a:xfrm>
          <a:prstGeom prst="rect">
            <a:avLst/>
          </a:prstGeom>
          <a:ln w="38160">
            <a:solidFill>
              <a:srgbClr val="ffcc99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E4619B-67CA-4062-9912-83B375194AFB}" type="slidenum">
              <a:t>3</a:t>
            </a:fld>
          </a:p>
        </p:txBody>
      </p:sp>
    </p:spTree>
  </p:cSld>
  <p:transition>
    <p:comb dir="horz"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8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3000"/>
                            </p:stCondLst>
                            <p:childTnLst>
                              <p:par>
                                <p:cTn id="17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4000"/>
                            </p:stCondLst>
                            <p:childTnLst>
                              <p:par>
                                <p:cTn id="18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5000"/>
                            </p:stCondLst>
                            <p:childTnLst>
                              <p:par>
                                <p:cTn id="19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-324000" y="549000"/>
            <a:ext cx="979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Tahoma"/>
              </a:rPr>
              <a:t>Märchenstunde in Berlin</a:t>
            </a: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3800"/>
            </a:b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205" name=""/>
          <p:cNvGraphicFramePr/>
          <p:nvPr/>
        </p:nvGraphicFramePr>
        <p:xfrm>
          <a:off x="1042920" y="2276640"/>
          <a:ext cx="4249800" cy="1852560"/>
        </p:xfrm>
        <a:graphic>
          <a:graphicData uri="http://schemas.openxmlformats.org/drawingml/2006/table">
            <a:tbl>
              <a:tblPr/>
              <a:tblGrid>
                <a:gridCol w="790920"/>
                <a:gridCol w="903240"/>
                <a:gridCol w="1041120"/>
                <a:gridCol w="1514520"/>
              </a:tblGrid>
              <a:tr h="91440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€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ü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öck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üse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ä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tü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wäc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06" name="" descr="Märchent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95640" y="4221000"/>
            <a:ext cx="2664000" cy="1184400"/>
          </a:xfrm>
          <a:prstGeom prst="rect">
            <a:avLst/>
          </a:prstGeom>
          <a:ln w="25560">
            <a:solidFill>
              <a:srgbClr val="ffffcc"/>
            </a:solidFill>
            <a:miter/>
          </a:ln>
        </p:spPr>
      </p:pic>
      <p:sp>
        <p:nvSpPr>
          <p:cNvPr id="1207" name=""/>
          <p:cNvSpPr/>
          <p:nvPr/>
        </p:nvSpPr>
        <p:spPr>
          <a:xfrm rot="20019000">
            <a:off x="1186560" y="5096160"/>
            <a:ext cx="15372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. Jubiläu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 rot="1115400">
            <a:off x="5097240" y="1923120"/>
            <a:ext cx="335232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om 5. bis 21. November 2004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 rot="20671200">
            <a:off x="6369840" y="3299040"/>
            <a:ext cx="17154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unstmärch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 rot="20835000">
            <a:off x="1210680" y="1550880"/>
            <a:ext cx="28569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0.000 Besucher erwarte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 rot="21095400">
            <a:off x="4429440" y="5823000"/>
            <a:ext cx="34635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0 verschiedenen Institution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13DE25E-F13A-490B-A6C0-8A5E0830BE19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fld id="{7B4CDA5C-9D6B-4EE0-BC85-5EE5F43F1BFA}" type="datetime1">
              <a:rPr lang="en-US"/>
              <a:t>07/28/26</a:t>
            </a:fld>
          </a:p>
        </p:txBody>
      </p:sp>
    </p:spTree>
  </p:cSld>
  <p:transition>
    <p:wedge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5" dur="20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2000"/>
                            </p:stCondLst>
                            <p:childTnLst>
                              <p:par>
                                <p:cTn id="20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9" dur="20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4000"/>
                            </p:stCondLst>
                            <p:childTnLst>
                              <p:par>
                                <p:cTn id="21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3" dur="20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6000"/>
                            </p:stCondLst>
                            <p:childTnLst>
                              <p:par>
                                <p:cTn id="21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7" dur="20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8000"/>
                            </p:stCondLst>
                            <p:childTnLst>
                              <p:par>
                                <p:cTn id="21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1" dur="20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3" dur="2000" fill="hold"/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4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5" dur="20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6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7" dur="20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8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9" dur="20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0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1" dur="20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3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15000"/>
                            </p:stCondLst>
                            <p:childTnLst>
                              <p:par>
                                <p:cTn id="2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482400" y="351000"/>
            <a:ext cx="798660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cc"/>
                </a:solidFill>
                <a:uFillTx/>
                <a:latin typeface="Arial"/>
              </a:rPr>
              <a:t>Rückschau erster Wettbewerb vereinaktiv, Thema "Kinder"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539280" y="2062080"/>
            <a:ext cx="4681800" cy="40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Kreuzberger Wrangelki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„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Buchstabenoffensive“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Angebote für Kinder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Schmökerkist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as literarische Kinderkiezquartett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Jury kam zu dem Schlus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Handeln für ein soziales Problem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5392800" y="1927080"/>
            <a:ext cx="2882880" cy="40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Famili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Im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Täg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Leben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Kinder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Jugend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Erwachsenen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4D04EA-4699-4517-AAA5-AA7A0ABFDA4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fld id="{BFD09D74-4159-4B90-AFEA-E30C5BDD1FE7}" type="datetime1">
              <a:rPr lang="en-US"/>
              <a:t>07/28/26</a:t>
            </a:fld>
          </a:p>
        </p:txBody>
      </p:sp>
    </p:spTree>
  </p:cSld>
  <p:transition>
    <p:wipe dir="d"/>
  </p:transition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0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898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898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000"/>
                            </p:stCondLst>
                            <p:childTnLst>
                              <p:par>
                                <p:cTn id="26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898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2000"/>
                            </p:stCondLst>
                            <p:childTnLst>
                              <p:par>
                                <p:cTn id="26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898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3000"/>
                            </p:stCondLst>
                            <p:childTnLst>
                              <p:par>
                                <p:cTn id="27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898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4000"/>
                            </p:stCondLst>
                            <p:childTnLst>
                              <p:par>
                                <p:cTn id="28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898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5000"/>
                            </p:stCondLst>
                            <p:childTnLst>
                              <p:par>
                                <p:cTn id="28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898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6000"/>
                            </p:stCondLst>
                            <p:childTnLst>
                              <p:par>
                                <p:cTn id="29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898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7000"/>
                            </p:stCondLst>
                            <p:childTnLst>
                              <p:par>
                                <p:cTn id="30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898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8000"/>
                            </p:stCondLst>
                            <p:childTnLst>
                              <p:par>
                                <p:cTn id="31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898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9000"/>
                            </p:stCondLst>
                            <p:childTnLst>
                              <p:par>
                                <p:cTn id="31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898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10000"/>
                            </p:stCondLst>
                            <p:childTnLst>
                              <p:par>
                                <p:cTn id="32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898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11000"/>
                            </p:stCondLst>
                            <p:childTnLst>
                              <p:par>
                                <p:cTn id="33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898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12000"/>
                            </p:stCondLst>
                            <p:childTnLst>
                              <p:par>
                                <p:cTn id="33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898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13000"/>
                            </p:stCondLst>
                            <p:childTnLst>
                              <p:par>
                                <p:cTn id="34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898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4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6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9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1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4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6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9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1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4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6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9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1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4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6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9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1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4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6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9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1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4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6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9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1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4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6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9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1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4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6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5" name=""/>
          <p:cNvGrpSpPr/>
          <p:nvPr/>
        </p:nvGrpSpPr>
        <p:grpSpPr>
          <a:xfrm>
            <a:off x="1955880" y="1338480"/>
            <a:ext cx="5116320" cy="5106960"/>
            <a:chOff x="1955880" y="1338480"/>
            <a:chExt cx="5116320" cy="5106960"/>
          </a:xfrm>
        </p:grpSpPr>
        <p:sp>
          <p:nvSpPr>
            <p:cNvPr id="1216" name="_s96341"/>
            <p:cNvSpPr/>
            <p:nvPr/>
          </p:nvSpPr>
          <p:spPr>
            <a:xfrm>
              <a:off x="2637000" y="202788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ae99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7" name="_s96342"/>
            <p:cNvSpPr/>
            <p:nvPr/>
          </p:nvSpPr>
          <p:spPr>
            <a:xfrm rot="3600000">
              <a:off x="2649240" y="201492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714d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8" name="_s96343"/>
            <p:cNvSpPr/>
            <p:nvPr/>
          </p:nvSpPr>
          <p:spPr>
            <a:xfrm rot="7200000">
              <a:off x="264924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33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9" name="_s96344"/>
            <p:cNvSpPr/>
            <p:nvPr/>
          </p:nvSpPr>
          <p:spPr>
            <a:xfrm rot="10800000">
              <a:off x="2636640" y="202752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e62e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0" name="_s96345"/>
            <p:cNvSpPr/>
            <p:nvPr/>
          </p:nvSpPr>
          <p:spPr>
            <a:xfrm rot="14400000">
              <a:off x="2649960" y="201420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cc28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1" name="_s96346"/>
            <p:cNvSpPr/>
            <p:nvPr/>
          </p:nvSpPr>
          <p:spPr>
            <a:xfrm rot="18000000">
              <a:off x="264996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bf26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2" name="_s96279"/>
            <p:cNvSpPr/>
            <p:nvPr/>
          </p:nvSpPr>
          <p:spPr>
            <a:xfrm>
              <a:off x="3289320" y="2048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regelmäßig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3" name="_s96278"/>
            <p:cNvSpPr/>
            <p:nvPr/>
          </p:nvSpPr>
          <p:spPr>
            <a:xfrm>
              <a:off x="24289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täglich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4" name="_s96265"/>
            <p:cNvSpPr/>
            <p:nvPr/>
          </p:nvSpPr>
          <p:spPr>
            <a:xfrm>
              <a:off x="32893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ccaa00"/>
                  </a:solidFill>
                  <a:latin typeface="Arial"/>
                </a:rPr>
                <a:t>bürgeraktiv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5" name="_s96264"/>
            <p:cNvSpPr/>
            <p:nvPr/>
          </p:nvSpPr>
          <p:spPr>
            <a:xfrm>
              <a:off x="50101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Vorschläge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6" name="_s96263"/>
            <p:cNvSpPr/>
            <p:nvPr/>
          </p:nvSpPr>
          <p:spPr>
            <a:xfrm>
              <a:off x="58705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darüber</a:t>
              </a: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7" name="_s96280"/>
            <p:cNvSpPr/>
            <p:nvPr/>
          </p:nvSpPr>
          <p:spPr>
            <a:xfrm>
              <a:off x="5010120" y="2050200"/>
              <a:ext cx="727200" cy="72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können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aa00"/>
                </a:solidFill>
                <a:latin typeface="Arial"/>
              </a:rPr>
              <a:t>Märchentage</a:t>
            </a: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-360" y="1917360"/>
            <a:ext cx="3187800" cy="42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1116000" y="371628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7308720" y="364500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C728AC-9694-45B5-BCDA-0C0EED4C8C05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fld id="{F72FAF64-0B26-4584-89D6-FE92CFDB539D}" type="datetime1">
              <a:rPr lang="en-US"/>
              <a:t>07/28/26</a:t>
            </a:fld>
          </a:p>
        </p:txBody>
      </p:sp>
    </p:spTree>
  </p:cSld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0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3" dur="10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6" dur="5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48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1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52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5" dur="10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57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0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61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3T14:29:50Z</dcterms:created>
  <dc:creator>pd149311</dc:creator>
  <dc:description/>
  <dc:language>en-US</dc:language>
  <cp:lastModifiedBy>pd149311</cp:lastModifiedBy>
  <dcterms:modified xsi:type="dcterms:W3CDTF">2004-11-10T11:18:20Z</dcterms:modified>
  <cp:revision>44</cp:revision>
  <dc:subject/>
  <dc:title>Carlos Santana </dc:title>
</cp:coreProperties>
</file>