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0280-1007-46F2-BDE6-12BC7F6D7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47E2-20C4-41FF-B63A-803AB31E7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226DAC-4D49-4CDD-843D-EAA4FAE5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7166E2-BD30-4B55-9FF2-5B9A2E90B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38A5F9-9EDC-4CAC-80B1-33C5825E0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972FAB-4DB2-44B8-A1DD-8A924DFA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157512-62C8-4D55-B939-7F6EEE6C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66BD28-2D0D-4292-8541-75BFDC92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731BDA-C5DE-4F1C-B716-5859A8F18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653F59-C02E-4BDF-A441-128363485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7639D0-92C4-41F9-8A67-C336B3DD8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AB55EA8-AF40-4274-A7FE-E02EAFC61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2412-451E-49BC-9989-EEDF40B99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171E7C0-4C2F-48C7-BD8D-7D80E055F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98814C9-FB8C-4C1B-8216-8CFD19EC3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477B08E-233B-4942-89D8-EEFB804C0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59EA0C9-E8CD-4980-B1C2-33B865289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D153630-44D8-4578-A136-AA528E56D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118E239-0AEC-4F82-B603-BA96B043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330D335-DE30-482E-9991-8873F983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FFAF131-AFC6-4148-813E-5C651DED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7AB0AFB-EA3F-4889-B965-252F9C6DA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660CDEC-82B5-4990-BAF8-A11944219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565F-72DB-4802-9F21-A77E4DAC3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446B017-483B-4246-8C4A-2598B90B8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4EB23A-A957-438B-B970-61B0DAB58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F930BF-5BE2-452B-BD99-7C508B23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697A34-1BAE-490B-8BE2-F3A94FD6F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CEDD69-8786-479D-9DA1-1231F2123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A87421-87C6-44B7-8D3E-A5133EE1B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4D6E7B-E2A9-427B-87C9-EB8C7EE26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9C5896-8C11-4A86-A9F6-5CB6933A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A094AE-ED2E-4944-A7F4-BF21127D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FB0395-73C0-46F9-9270-21C4C890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74F84-E63D-42BF-BB58-F182F1657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3FB6D8-D8E8-464E-9335-1222B1444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C081DD-C3DC-4ADC-AE4E-FA98457BF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5577D2-FCEA-4790-9B2D-37E2644E3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3F6864-597B-4696-B4C5-279241851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AD1B40-2D47-4848-962B-1D873B437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AB2735-0A09-494E-8466-B30275439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2385D4-5182-41E2-959A-0C448D7AF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9A1BF5-9540-4322-B343-A73B5B90D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394D0F-461E-4329-AB16-E4A03DF75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931647-F45E-4D21-9D7A-458E5F88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777AE-44E6-43BD-8720-5EAD2C8B1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B48E81-7CE8-4A3F-AD7F-16C8E000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536283-CFCC-4F13-BC3F-9228A82E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2BE0F0-9311-4A16-95F7-D041EB296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47D48A-42A7-4BA7-9A67-0CA4FC49C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B22A97-DD97-4E7F-B0A3-73E355FFC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4DB3D-3742-46C9-B4C8-9897A648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EA54B-C29F-4090-8F2D-FD4952D99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E3456-CEFA-49A4-911D-37FC8E65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361A4-89F0-41D9-B87D-594CDEE85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9B6BB-8AE1-4E53-934D-D57BB782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A8ED-4D2A-4F8C-9C13-B1E97C5F4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F0767-5335-4D90-9DCA-DE6DFE1D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7771F-AD2D-41DC-B8E5-C5BBA2BD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768C3-E99A-4DAC-A563-4B4612C41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4D795-1F82-4E18-B102-0644913C2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59EE5-BAEB-4618-B0E8-3BC38736D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3631C-AAC9-4474-981D-FF04D04DE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D802F-822E-412A-B9D6-59E2125B8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BD1E0-E6A1-4A73-AAB3-70626D5F2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D9645-87D2-4732-AAF0-192C45121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55CE1-08C9-48FB-8F67-90C1EF3D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22A8-B462-41F3-AF58-58273787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B75B7-3C6F-42FC-82D3-DF830D3F7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A7EE1-8345-47F4-8557-FF8815B8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7499B-EC86-48A7-A253-2756A77D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AC281-0505-48C8-9A3A-550956BD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39B68-2A4A-48BF-A762-F3DB126F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B1DFB-B7F9-409B-9194-6D603D022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24518-8BFB-4D59-8898-B620135DD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62971-EFA9-4394-8567-3A4E43E1E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9FBAE-54E4-43F1-B1E9-D6A966BAE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658EC-A868-450A-82CA-75A4D3E90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320D-1B7C-4977-BFA8-2B66B9953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6B664-A06F-43A9-BB6C-7F6ED5BDC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1D4BF-1982-42F5-B9E5-46290068D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6CA85-618F-4256-BDF2-22967F82B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D365B-3A0E-449B-9DA1-19148B5C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E9300-71A6-454D-9A62-E225FDA9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5083D-C722-4774-9BE7-473C0AF9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E25C4-D81D-43F7-92F2-D15F49CFA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D4EBC-844A-42C2-8B71-4DFEC1E32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8BA20-77DE-4A0C-987B-70BC86288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1DB35C-486E-4837-A46B-C6A28962B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9AE3-28A6-4125-AD57-4F8486F93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95066A-CCDA-4C96-AF1C-DB985FE16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7357D9-D231-4C52-904A-B2E48FB74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D28825-3731-47DD-936F-80E3481B5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2C73FD-193B-4528-A36F-6DB4FFC74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97CC8C-42C7-42D2-87E5-24C39626E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9B0FA9-0A62-4BED-B276-0EC8B3A9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6AB3F0-38AB-4C27-80DB-1CF3DC24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853155-FFE1-44B5-8E3C-C5D8EE35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AA73E0-8AD3-414B-9C0B-2267494B5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367C8A-7CF4-4056-9315-D1CBD1A79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334B-57FD-4720-968A-6FD7E5261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43A537-ED0A-4433-BB54-FCB691ACB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D6422D-52F4-4F9D-AF6A-E024C2C7B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9F04E-42FD-4A1F-80D2-0FF5BEC6E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FFAD2-33F0-4E4F-8781-57D4D60FF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02EA1-8F72-4AAF-A102-180AFCCB0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4AFAC-FB72-458B-91EE-97BFD32F2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F1187-791B-419E-ABC7-61FF25828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554EF-2319-4CFC-BE69-FD7FADC0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61B29-602D-45C9-A2F3-76538FA9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692A1-D6C6-4554-BD2D-E48D5F9E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E662-7787-41F0-83F2-A9381F63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31A9B-6A3E-40FF-AF49-8EB01F86D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42A33-303C-4F46-AA72-DEC033DD2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22335-264E-431D-A7CC-26BAA662F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35A95B-1AF8-42AA-A11B-D6A708703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23DB8-43CE-4D1A-8C20-992507A98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D8870-5B8B-4C55-ABFF-5C6E93B8C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F7570-C7EC-48F6-84F5-F537B7E76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61D2BC-1CF9-4487-A0E0-0F2004BC1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FB120-5EB8-4D82-B14F-5CFA52039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552453-C30D-422F-94B4-460D051A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1F3F-D91C-421A-94CD-CFEABD8E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7CE28-2CA4-44EC-80C5-3CB4D8C6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9FD0F2-6AC0-41D2-B68C-15F2EED1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CF64F-57C7-492E-8778-D5E9D644C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B806CC-B666-4153-BD33-BE85B4102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63698-92CC-4FBD-9B09-93D7ED844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4987A-F838-4721-B9B3-C88E02EFC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3188B9-D5D3-48ED-BC17-EFDBED19D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C7B46E-D9C2-4FB4-8C2C-8E4D9DA39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8ECB0B-CB5A-41DB-B009-4D14D45FB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A04304-60EC-46CE-A582-734694DF2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8AE5-6EF9-46E5-88C0-F7A68983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5196CB-D960-403E-BDDD-F8BA28D3B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47EBB8-0A01-4ABE-BA20-0A9EEDA0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762D10-20C6-4710-B93D-B6D858B8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4D36F1-F46D-461A-8997-D0A6B146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E88E20-514E-4F99-8AC2-33D5C894C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70994B-F2B8-4CC8-969F-8E5EEE286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553F7-3CE2-4511-AE50-18F1C0B2F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6AC76A-F16D-43B3-BBA6-347B58814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71D720-9099-4DEC-9D5E-16DFE72D7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1819B1-ED1A-446D-A673-46E50FB10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A3F4F-094F-4C2A-8ED2-8A7DFDF1D593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D3F42-5957-4D3A-A1BF-04A116D075B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31E7E-F000-47E4-BA54-FCC88B8E90C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795A5-25E2-4909-8530-E16B0C63D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B468C-66A4-4BAE-A6E8-F5D1CB81166A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B771F-C5AE-4D1D-B19B-2E922F65A5F6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F6CDF-5FDF-47D8-B127-856D19882A5C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F4DA6-81CD-42FB-8C8F-4906A493146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F6EA4-63B7-47F1-8526-91D57E7D63D4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6318F-5F26-4AF3-98FB-75B6CD63E0E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FAAAB-EC98-4904-814B-CCCA1473522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98AA8-C09D-4760-881A-F0D6837180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EEC76-BA37-45E8-85B4-3C287EC0067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D05BB-F943-4F8C-A083-D624FD0207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7C06A-8472-4022-BC0D-AD16A58C3CE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5A5F-10EA-434B-B412-AE31A0AB7CED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9EB73-D5F5-43D9-8B9E-5A93C09B47AE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75965-FC23-4CB1-B469-44453DDAA73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32137-A13E-4127-B9C5-9AEF2D75BDDC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3E373-EFFE-4CA7-9B65-23231D79A65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15EB7-D89B-4598-A70E-BCEE93F29A72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DC66C-1E71-4FAC-9328-8840454C371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81885-E3AE-48E1-8E55-82B06681D9C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68084-38C6-4298-B4BC-6FA61A9FA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77D9-A2F7-4113-B957-435CE5C64B2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287D4E-8E3C-468A-8F5C-6EDE151AA7EE}" type="datetime1">
              <a:rPr lang="en-US"/>
              <a:t>07/28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B623B-7299-4CB2-BC7B-0676DE246DF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64237083-6B59-447F-B272-90BE6D7BC1BA}" type="datetime1">
              <a:rPr lang="en-US"/>
              <a:t>07/28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6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29F9F-0F35-4BDD-8535-76062A91B7C6}" type="slidenum">
              <a:t>3</a:t>
            </a:fld>
          </a:p>
        </p:txBody>
      </p:sp>
    </p:spTree>
  </p:cSld>
  <p:transition>
    <p:comb dir="horz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6B039F-C120-4625-98A5-F442F7EB0199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4EB9D9DC-85AA-4ADF-A53F-6C233BAA3874}" type="datetime1">
              <a:rPr lang="en-US"/>
              <a:t>07/28/26</a:t>
            </a:fld>
          </a:p>
        </p:txBody>
      </p:sp>
    </p:spTree>
  </p:cSld>
  <p:transition>
    <p:wedg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6000"/>
                            </p:stCondLst>
                            <p:childTnLst>
                              <p:par>
                                <p:cTn id="2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8000"/>
                            </p:stCondLst>
                            <p:childTnLst>
                              <p:par>
                                <p:cTn id="2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329DCA-6250-4F4A-B468-3728E62EDD5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DB7BA790-2888-4182-AB64-D07CFDF5AA48}" type="datetime1">
              <a:rPr lang="en-US"/>
              <a:t>07/28/26</a:t>
            </a:fld>
          </a:p>
        </p:txBody>
      </p:sp>
    </p:spTree>
  </p:cSld>
  <p:transition>
    <p:wipe dir="d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4000"/>
                            </p:stCondLst>
                            <p:childTnLst>
                              <p:par>
                                <p:cTn id="2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0"/>
                            </p:stCondLst>
                            <p:childTnLst>
                              <p:par>
                                <p:cTn id="29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7000"/>
                            </p:stCondLst>
                            <p:childTnLst>
                              <p:par>
                                <p:cTn id="3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9000"/>
                            </p:stCondLst>
                            <p:childTnLst>
                              <p:par>
                                <p:cTn id="3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0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5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124A67-A4F2-44DB-B4C1-D6F39F6D3A2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A9CF9730-1839-4D25-950A-8280904F8D7E}" type="datetime1">
              <a:rPr lang="en-US"/>
              <a:t>07/28/26</a:t>
            </a:fld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5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6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4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5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