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34683"/>
        <c:axId val="23601080"/>
      </c:barChart>
      <c:catAx>
        <c:axId val="15634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01080"/>
        <c:crosses val="autoZero"/>
        <c:auto val="1"/>
        <c:lblAlgn val="ctr"/>
        <c:lblOffset val="100"/>
        <c:noMultiLvlLbl val="0"/>
      </c:catAx>
      <c:valAx>
        <c:axId val="23601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34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8B7-A520-4CCA-B5DD-A12F0511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009-7508-4A88-A0EA-5D39C57F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F8E-7981-43DB-B653-BA87CA06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70F-CC45-452C-9739-9BE2465C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940-3C25-4B8D-B5C3-1919F531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945-75F8-4A3B-9466-0FF5649F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5CB-66B0-492D-BDC6-6F752F09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52A-DE89-4582-81F6-0D9AAD08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2C9-C10D-44E3-BBF6-DEE75375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B5A-166B-44A1-B40D-DB821CC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00F-3008-40B3-9D0A-DDBD721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031-1E05-47B5-AFD5-6CB5571F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3B4F5-353F-4C28-9930-E8CDF6A8ED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