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59717"/>
        <c:axId val="6037081"/>
      </c:barChart>
      <c:catAx>
        <c:axId val="91059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7081"/>
        <c:crosses val="autoZero"/>
        <c:auto val="1"/>
        <c:lblAlgn val="ctr"/>
        <c:lblOffset val="100"/>
        <c:noMultiLvlLbl val="0"/>
      </c:catAx>
      <c:valAx>
        <c:axId val="6037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59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C0B-0B5B-4C79-B9F8-9FCEDD49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F85-4F82-4127-82AB-B428F43E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657-C585-4DCC-B5E4-15061604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F11-CA43-464B-97E9-35C19BE3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005-E3DA-4154-8962-67CE0F99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26F-3793-4390-BF43-EE343BD2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489-5AE2-486C-B185-8D40CE91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3B5-3990-419B-81F7-6D8811A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AA7-DC36-42D7-9FEA-FDD72404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626-EDB3-48C4-B3A6-3E5ED206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29A-915F-4C0F-8432-C938C990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889-A562-4B65-8BD3-067FBE4D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48954-FD2D-44AA-9D9D-574DEBD14B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