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11472"/>
        <c:axId val="35976331"/>
      </c:barChart>
      <c:catAx>
        <c:axId val="27711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76331"/>
        <c:crosses val="autoZero"/>
        <c:auto val="1"/>
        <c:lblAlgn val="ctr"/>
        <c:lblOffset val="100"/>
        <c:noMultiLvlLbl val="0"/>
      </c:catAx>
      <c:valAx>
        <c:axId val="35976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1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C6C-39CF-47DE-897F-BF52FCFE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A69-A0CA-4BFA-B7AD-B3874BEA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D74-4102-4D50-822C-352ED2D2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F94-8822-46F8-B572-FCB3D626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A55-BFC1-4B27-BF31-BE9645D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711-F443-4D28-ACAD-F68040F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07B-FC37-4527-8221-DC11670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31E-7126-4ECA-9113-A73F6A3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A89-655D-4A92-BB80-66624A84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63D-3B4A-4233-A199-D82C77C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CAF-2725-4C0F-9B04-E3B7A93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731-F007-4FFC-B4F2-F40D04D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D76F6-9189-4877-A39D-AFC94817D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