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79DF8A2-2F10-4482-AB98-650435D8B71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52ECED5-C58C-4098-A531-D3FF6789FA2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3471162-3233-4113-AD20-4873B4DBD67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46FB7AC-6D5B-4E9E-B422-6BCC44A970F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93BD94A-12D6-44B0-9AF3-2869D947BEB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8A4CED3-DD93-4F5C-8FAE-FA36B8FA8F8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2A27119-841A-4FE6-B5C7-570FB2017C0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39CE421-05A7-4998-B204-C3E12BE19DB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715D559-F0CF-4934-9864-5C0BEB6CBDF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8CDE617-D438-4446-8680-42D464F4BCF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0BC021E-813F-4DB8-98D2-0895C60C447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87C88E6-A7FF-4BDE-9EDF-642D4766AD8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DB7A6C5-E228-488B-91BC-AA10603964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188276-DABD-4377-AE76-F039B48390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7A083E1-8A29-4289-878D-565E4C4CE5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F2320A3-613F-4A50-8DA9-6108DF4732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64C0F22-127B-42AC-AB2E-9A7BE5C0E4E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5FA13BD-8926-4B7A-A483-64296842331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3812481-1EFD-49E7-84B8-F96664388E0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AFEE86A-6286-4F6D-9769-CAA6FA3AFB8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6070CAD-829A-4677-A9B2-49832320B77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A6EF955-C853-4640-AD5B-5AF0965128E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7C1B7BB-A5F5-424B-9A18-C04CE109A1B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AAFB421-3004-45C4-8C2D-0CD23CD087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98E8433-612C-4D01-AFD8-94FC1EC2B19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D21F356-BA4C-480B-98E1-272A3C34497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F20908C-59C1-4808-AE5F-DB1C2D0B532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AEDF08F-8964-45F8-8C27-31CEC21B08C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FCE7B94-FF5B-4C4F-8650-143A8D9DF7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A6D0D0-CBCE-4CC0-888A-6016639242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DB1349-B212-4E75-BD71-D48CD1BA3F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55DAE07-8676-45F5-8A97-8F0210AF0B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CABFA3-F9CF-4E3C-94A1-5A13B90DF4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3F7967-871C-4BE3-B2A9-D0FF2DE0C5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821948-DC23-4574-87CC-3F5C4E8CD2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256892-3B55-4814-AE00-3E67C205B5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2B972-1CC6-46FB-A716-9498B8AE7B2D}"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9AAB8-B06D-49D0-A971-CBBF8C5B057A}"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6D2B999-F8B1-4DFD-9E5F-6F0E8310D2B4}"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A88D300-9C3A-4494-91C4-2549BB5FCD7E}"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B0FDBF2-AAA8-4DED-9E3D-5E47B3A7630E}"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FFC1A50-DEEB-41A1-BA3E-E30EA19A043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8340A22-89B4-4F07-931A-B56C03DBBF0B}"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BFC86FE-01AE-4ABB-A16B-9EDE5908F8FC}"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3BDCD73-B7E6-4F21-8D9C-FB710FF19AA1}"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7F2A881-F3E2-44E1-9347-39581BD13259}"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98A85E9-2CDD-4465-9A60-06DBEA3B7335}"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FE882F7-DE35-4FB6-914D-C6667ED6BF98}"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558A950-5320-4870-94D6-F3956300B92D}"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D14FD668-01C5-4CAB-8B87-E1FB9A99EC18}"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655CE8A-9314-43C1-A024-FA1DE967BA34}"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40A4952-A4C3-4527-AAD0-45B156D19EB4}"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47D90AF-A85E-4440-9159-188F6BC52F9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4C646A5-8651-41CF-BF15-035C7E9F842A}"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93038D9-15FE-48B4-BB2A-82FFC9C390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BFDD704-5A55-4DB6-8BB1-330D0F24E5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720E2B8-2F4A-485D-BE4F-7D58056ED388}"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1757A27-AF3B-4E93-89FE-FFD4F8A938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929645E-A166-43EC-BEB9-7145E0AA1C0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3A32E0-2AD4-4B6C-8FDA-3FF469D9BA3E}"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170AC40-6A47-4288-ABDE-9397B9F8E8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4C11FE5-49BE-49F7-B7F2-1B8222EBFE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70F569E-DE14-40D5-AD07-477AD053DC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4C38F5C-0307-46BA-9665-DC137E0684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E48058C-916C-486E-A59F-F0013BF8A83B}"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59DE421-38C5-4E85-B5D2-9ADD5BF09E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21D35AD-803B-4408-B02B-DD7D3C8D0F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9C8B8D-3EB6-4EC3-A50E-8E7CF4C2407D}"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0330207-CE93-4ABA-8D72-2AA79ED90CF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768DFDF-A8BE-4E4B-B4F0-BA42501FABF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546B5DD-E6FC-4866-8A50-4A4DEF0A8B4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9486B39-89BE-4D87-BE85-E630F86E10F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034EAC9-AD14-4A64-9B39-96B79AFDBE4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1A0E1C6-CCAE-4667-845E-ADA00FF20B9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69645EA-7711-413E-AF62-6DD9A5DFFE2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78B2748-58F1-460E-955D-A56F0E5D909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C900508-D8B1-44F0-B6CC-D841FF5BDE9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8425B26-690A-4858-8034-C1DE6579A7C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31AA63A-C924-456E-8FDD-D65A950AC0D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0A99AA0-6762-424A-855D-E82696B051E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4DA298F-69DB-4D8A-8226-73837BF9B199}"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644C696-5EB6-42E8-AF2D-2A82E323E69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9259ADC-1A81-472C-9990-841E43D435C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1A7A7F6-7E32-401C-9640-2A3C357510BA}"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7649CFA-EDC2-41D8-B243-9D58931609E6}"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9A6BF48-A611-456B-8BB3-5B92C86A566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6B8E08C-7AEC-4862-982B-2D098930C8E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B9AF55C-6263-4E75-9BDB-EAF182E43B0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0C825C3-B347-4901-8045-B2387968EFA3}"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7EC1D79-4F3F-4CF5-AD58-A881C6A92035}"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43DAF05-77AE-4EB4-BE31-B7E759BD048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7453F3B-5E05-4038-AA14-FFB3A1BB9E3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2F21BC7-029F-4877-882D-1665903BF59C}"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10EB094-2F1E-4BF3-AA83-778510D14ABE}"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1694302-DAAE-4C69-9EE8-1D86800B0104}"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93C83A0-A14B-45C1-845B-DE621BBE3BE6}"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6844DB1-757D-46D5-84D9-52570C76AEF4}"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414F905-E65F-414B-82D3-DDB3B63DB537}"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B017D7D-6F78-499B-8B87-84A9D15032D7}"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58AB2F-F901-468B-A2FF-D5E81671F1AF}"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F2779DB-2BF3-4236-A6CE-C04C8666469B}"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50147C9-EDC7-4923-90E4-8D511334D241}"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06421B5-E7BF-491D-AC99-A23AC7F8F18A}"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5D74487-6DDA-4F24-8786-E2080E7C796E}"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4253EE9-948B-49A6-B50B-1048BBA2AE15}"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8DEBACA-11D6-423A-8543-7391E41AE843}"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DBF9E12-135B-492F-8C75-A9D95632DACB}"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45E9B41-42D7-4A7B-98FA-FE7B86BB2424}"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E8FEB22-778F-41CB-8A46-8D62E2BDD1CB}"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8C5F7A6-C09A-4B71-8E37-3B643CD7FBC6}"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B852497-62D4-4B56-A0FB-7A75F3A1CD58}"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655A257-8D0D-4331-85DF-46DC5CB913A3}"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5731AC1-1F0E-4877-8988-E32AD8F82268}"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DE4396C-A24A-486B-97BA-97DB6CDCB2C7}"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C0BDBD1-C1BC-4DB8-87B7-A74D7B2799C8}"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D0CD1CE-BB97-453E-AD03-4CBC9967027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D71B6C8-91D7-4948-B3C9-76F6B8D75AB7}"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8DEA53F-A4D5-4CCF-8B0F-EF33332A2E0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6887B3C-5DEC-4689-96EC-2F85006FF384}"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53DEF9D-9133-4863-B874-A6CABD1A3A96}"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9D5B113-348C-4679-AB67-D84750100CDF}"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E2BD9F2-6B02-463F-99A2-65E7A54B1433}"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B015873-EB1C-4560-98C0-31F61CCA3385}"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E92DEC6-FDB0-4E2C-953B-C96AC738D0FD}"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B374499-AD10-4BC0-BADF-4BC0A43BC0C4}"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4F0EEE0-F9EF-417F-9A52-53E9B4EEABC6}"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89C9DC8-94F3-4DEA-AD93-CB462FBC7845}"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3F6AB1D-8D7F-41A7-9A8C-58B34359855C}"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61396D8-1675-4B0C-9FD2-3FDF26C1B7A4}"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BE07EE0-2D00-450F-945C-CE057DC34125}"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08ABB2D-2998-4A9D-9053-F23828A9E586}"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546A295-B72B-47A6-846A-3034CD8908CD}"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CB8F8F0-739A-46CB-9924-9927B371DFCF}"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99B8990-2B61-4DD1-A145-D3653197C8C9}"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E6851C0-7512-4833-B5B7-0603FD9003F8}"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E3A69804-8F70-462A-A934-90320A51F770}"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63826DD-794C-4EF3-BD7A-051FC8E5A782}"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1DA2E37-8CDA-4764-8852-25BF218DEE84}"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6BEC954-D39B-468B-80D7-5B9CB5F873FB}"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99B1A4B-0D48-4571-8874-45A5E10633E1}"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79CA689-5325-44DB-A0B8-6F523930DC78}"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9CF8634-C6D5-4E31-AFD4-ACCC69DE1100}"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D08753E-027D-45CB-9F13-A3F58C1C8FDF}"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4ABCAE4-34ED-438B-8DE1-8A4F72199AA4}"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6927FDE-47CE-4377-B7FF-71AF43483093}"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0EEFBD1-F0B2-4C42-A36F-C0F6CB58FDC2}"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F16668F-D177-4ED8-B291-F1AA8BC7B4F3}"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3DC6ACC-B363-4BAC-9C82-CBCE7B12CF38}"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F8FF8E4-86ED-4060-905E-22D58D41AE6D}"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