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40616"/>
        <c:axId val="25377493"/>
      </c:barChart>
      <c:catAx>
        <c:axId val="76340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77493"/>
        <c:crosses val="autoZero"/>
        <c:auto val="1"/>
        <c:lblAlgn val="ctr"/>
        <c:lblOffset val="100"/>
        <c:noMultiLvlLbl val="0"/>
      </c:catAx>
      <c:valAx>
        <c:axId val="25377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40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DF3-BBF1-4E58-BBFD-22539E70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8AB-A87B-4916-9FC4-8F061009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54D-13D2-460E-86E5-A2A51A1C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0E60-E91A-4BCD-BCEB-788A0CD6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3D1-C616-4F41-8887-D7A4D41A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3D7-E7C5-4CC7-92C9-D1130B34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569-E307-47A1-9A40-C4E3041A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2E6-BF90-4DDD-B879-CE77242B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DE6-E98E-48FD-B15E-6E3BD4EC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539-6F86-4F53-825B-5AAA0D57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232-2F8F-47DB-8FAA-59101F22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87B-0CB5-4849-83DB-C65B158E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50A8C-1B0B-4CAA-8AF8-9C37D254B4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