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140525"/>
        <c:axId val="79380142"/>
      </c:barChart>
      <c:catAx>
        <c:axId val="671405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80142"/>
        <c:crosses val="autoZero"/>
        <c:auto val="1"/>
        <c:lblAlgn val="ctr"/>
        <c:lblOffset val="100"/>
        <c:noMultiLvlLbl val="0"/>
      </c:catAx>
      <c:valAx>
        <c:axId val="793801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1405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97CC-8102-44B4-88D9-F865E4BD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5D4E-8A1E-4EA2-A242-3E1462D4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CDC6-6A40-403D-9F06-B50CA491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A6E7-47ED-4A7F-8F54-54D60A5C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989C-4F47-410E-93FA-B9A94387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7C4D-6F92-4120-A159-59B150DA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DB69-EE7D-4FAE-8093-6B84A32C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61DF-757E-4261-9E3C-E97841E4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402C-37A8-4338-90A8-D63794BA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9F4B-DFDF-49B0-B15B-64E065FD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AD4D-C007-4164-8CCA-DC96E8A3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44B1-4166-47BE-9D12-E22F379E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A3776-9B69-44DA-9626-C0742965D8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