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42697"/>
        <c:axId val="64954340"/>
      </c:barChart>
      <c:catAx>
        <c:axId val="40042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54340"/>
        <c:crosses val="autoZero"/>
        <c:auto val="1"/>
        <c:lblAlgn val="ctr"/>
        <c:lblOffset val="100"/>
        <c:noMultiLvlLbl val="0"/>
      </c:catAx>
      <c:valAx>
        <c:axId val="64954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2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565-C312-47EE-A5CD-3C5B288D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9D5-6584-4B95-ABBA-F27004A5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E6B-CF22-4C65-8F07-3961C6EF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F0F-79B9-4620-9B51-203496DF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E92-AC4E-4181-A1C5-A847B188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926-AA10-4882-A528-84F0E6F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A5F-D196-4FB6-ACE3-9311430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30D-8BD3-434C-BE7E-44E9E1EB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12B-030F-467D-BB40-0F677BBD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954-5A18-4407-8DC6-F5742591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3A3-DFA9-4ACB-9D5C-008C788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042-2B04-4568-9AEF-B7C73A8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9521C-AF4F-427C-8D31-A608DC5146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