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07359"/>
        <c:axId val="59256305"/>
      </c:barChart>
      <c:catAx>
        <c:axId val="10607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56305"/>
        <c:crosses val="autoZero"/>
        <c:auto val="1"/>
        <c:lblAlgn val="ctr"/>
        <c:lblOffset val="100"/>
        <c:noMultiLvlLbl val="0"/>
      </c:catAx>
      <c:valAx>
        <c:axId val="59256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7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288-71C3-4B7F-8B38-36501A90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5AC-06A6-4225-A5ED-4D6260CF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962-EB95-48DB-9B47-20200880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F6B-57BB-44BF-92FB-9FCAE353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EF5-23E6-4090-8A9A-6E063DAF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12D-F412-41AC-9DA8-73947F98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CD2-7209-4E75-99A5-767A6090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173-C329-433E-AA89-BEB08F98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A5E-A4BA-43B0-913D-6FF43CA2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9FA-25DB-4C7F-8888-22BC6BE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75E-AA7D-468A-85FB-D3062E3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2FF-B157-4EDC-B62B-5EBED48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CEBB8-BFE0-49B9-B5B8-C329F8DA0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