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04891"/>
        <c:axId val="66719577"/>
      </c:barChart>
      <c:catAx>
        <c:axId val="45004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19577"/>
        <c:crosses val="autoZero"/>
        <c:auto val="1"/>
        <c:lblAlgn val="ctr"/>
        <c:lblOffset val="100"/>
        <c:noMultiLvlLbl val="0"/>
      </c:catAx>
      <c:valAx>
        <c:axId val="667195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04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5569-C073-4D8A-A1CA-8EF9FEFB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D36C-262F-42F5-B9E7-7501BF3A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0C5-5B06-4F75-BC80-ADAC774B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0996-0166-491F-843E-477158A2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3981-8ECA-49EB-B2E9-9769889A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80A-9718-4F0F-88FA-7D629D29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95DA-CA87-4AA0-B78C-AE6D3FE4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9B9B-3AA8-480D-9E26-15CB1F47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5EF-F731-4B05-983E-F0CD06AF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027-B6E1-4E48-80E8-98689DCA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2C71-538C-4A49-93D2-3FB78B06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ECC1-C4DC-4E8A-B893-327C0483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45570-5447-4511-8867-3ABF0128E4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