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401721"/>
        <c:axId val="20066436"/>
      </c:barChart>
      <c:catAx>
        <c:axId val="244017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66436"/>
        <c:crosses val="autoZero"/>
        <c:auto val="1"/>
        <c:lblAlgn val="ctr"/>
        <c:lblOffset val="100"/>
        <c:noMultiLvlLbl val="0"/>
      </c:catAx>
      <c:valAx>
        <c:axId val="200664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017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C9D-967B-4BA6-963C-37894041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D644-A86A-4464-84FE-8427E717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A68D-B42A-41F4-9AC8-C8A5DE46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FFD3-EC3F-4294-8896-E9B78FA6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0D6-7ACC-47AE-B6CF-D7E377E9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28F-0C3C-4B9C-8BE1-80BB35C0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2B2-A206-46B7-AA5A-ACAF42C3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F0F-B489-47F2-B451-F0B9BBD5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E7D9-FF37-4F8F-B9C4-5888EFA9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5C24-C93F-44FA-9A12-67B42261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C315-E69F-439D-B481-508371D5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1718-4846-40FF-9CB0-B1D259B9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A4127-4D05-4DE3-A500-8987F83020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