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537"/>
        <c:axId val="49616291"/>
      </c:barChart>
      <c:catAx>
        <c:axId val="333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16291"/>
        <c:crosses val="autoZero"/>
        <c:auto val="1"/>
        <c:lblAlgn val="ctr"/>
        <c:lblOffset val="100"/>
        <c:noMultiLvlLbl val="0"/>
      </c:catAx>
      <c:valAx>
        <c:axId val="49616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018-F3B5-4907-9F0F-09B9A478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302-DA9D-49AC-9559-2347A60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572-C504-4A6F-8899-FB7C8BAB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AEE-5F22-4210-BD61-3702F2A1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453-8159-4ACA-A804-16E2D5EC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725-AACD-42C0-9A04-8E665070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4D2-0ACB-4834-B818-7EFD555B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F0C-AF24-45AC-BE2B-8C7613C2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E4D-B0C5-4073-AEAC-32383896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4E9-AC47-4CFC-AFC3-2194250D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4CF-4104-427B-A025-F80F1F85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B1E-8974-4B87-A9F2-F54E82AA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A392C-5C8C-4948-8955-1E4B1BB09D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