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DF90-9622-440C-92BF-33D83FE7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1E8B-0A5C-4502-861D-840906DF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90187-B350-4EF5-B10D-B8AD6650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04EB9-5117-4E6B-9298-E62FE769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BF6BC-93E1-4A18-A818-AE0583ED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D14BB-BC1E-46D2-9A5E-B2F31949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51070-7F31-463C-8D25-DD7C0B9C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59CE5-7BBC-47CF-846F-EBB9A9E4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95326-3CAB-4227-9FBF-0B48092A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CDFBB-0E34-4AF7-B26D-07C0806B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68AB1-859B-4F54-A79D-13251EF2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2C3D67-5DF0-459C-9FB8-526898DA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DD1-5180-4036-A668-AF40656A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2A1049-83DB-4B1C-AF1F-77EDD782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512079-8E17-4BC2-8916-8350CE60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ACEDC0-C294-4722-B686-D1598707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54B248-258A-4F07-9F57-6158DC5E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B2C778-BF40-4FD6-8BA5-F9DCB502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656F75-791D-474C-A317-CAF859FF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F852E8-DC35-44F5-8A7C-B42ACCAC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C18816-FAB3-41E5-ACA0-595804C0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91A831-B519-4FE6-94FF-87BDE3FE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24097A-CB32-4522-A875-E0F4A44C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3BC5-E55A-4833-825B-B2061B51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4D3D50-A27E-423F-B7C9-D62739A8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B40FF-5AEC-4F95-8889-6C557EC7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906CC-E304-413C-A96D-B7C299B5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EDBB7-B10F-4AD8-8BED-5445B584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2B962-E627-4680-9B10-852CC701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5796E-3655-45BD-9A0B-A028F447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36757-3021-44EB-B678-5B3FF2EF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EEB42-2638-48D5-9BD8-38E51D5E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FA748-BC46-4779-A4BB-90A069DF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B9F7A-5116-4479-82F5-C1B89288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97D8-AA27-4AD3-979F-52A73D7C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7F921-3F2D-4AF2-B824-789AB931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058AB-FA5A-4229-8B7D-45CE2FB2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20A11-E81A-4F5D-A090-097763A6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A5D4D-8C66-40DB-8840-2D219EEB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B048A-A1FB-4BCF-89D7-0426D059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8D17D-6951-4F3B-AD0E-82C2CF95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C8D8F-FB67-4F72-AFF1-2D193834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28307-45E2-4126-8023-119CA7C1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597D8-61C4-4711-851A-65955E5F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AF992-D90E-4C65-9663-3C842929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DB04-2879-472C-8114-795B0286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793E0-2AA0-4292-A167-80F020D3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7FE6C-5A39-4293-8610-9E4BD8FD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204C8-8CA7-43ED-AE8F-7A486EE2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6268E-7E13-4620-9DE2-28E02267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BC5E9-4938-4CF5-A94E-77D70BE5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8741-5488-44C6-8493-73259EE2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C815-7BF9-450D-B9E3-88A4F315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35AA-0260-4A5B-A6AB-41E3FBD1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5560-8A36-4292-9402-09BC0ED4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3CCB-4B22-4900-B1F3-1E8A0EE2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3D88-2AB4-47E3-AF04-67421536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291A-70C5-48E1-BAF0-55CC692A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578B-11FD-40FD-B64D-FA6AC695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C10A-9823-4901-A228-1E5962EF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2839-005B-4ED3-99EF-2C82DD99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9260-A762-4619-8828-9DDE0962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9D15E-41A2-43DF-8222-1C87591E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BC3E8-15D6-4B3F-B8DE-A1D27874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CFB5C-0852-44D8-9B5B-CF0A2A37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B1D89-1E5E-4E77-A2CD-FC86686E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D1BDB-DAD0-4354-BD39-AF1AA7F4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2579-D713-4E91-AD54-6727CB85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CAC77-B674-42E1-A3A5-031FCFE2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A3B88-E382-4829-9A48-F4A24100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D1BDB-5602-4302-A162-13473DB6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5B2B2-E774-4FCD-A6D4-CAE11A27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FCB2A-43FE-436D-8125-AD664D14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4E75A-3C9F-4EE5-9E74-17459495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FB2A3-1CC3-4A55-B8B7-1C337F97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A8ACD-208C-46F3-A2A0-4DDDD1DE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F343A-AB8B-4BBA-A318-9D8C9174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23846-0179-435D-9AE1-4AC57591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A893-6B15-4452-88B7-7FD472E1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4B65B-D036-4057-8DCA-F8C5A10C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61D56-99FE-4856-97B0-D922903D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9426E-4CC5-45BF-AF5F-0A86F3F1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E4D48-327C-4C33-BDE3-3AFF3EC8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FC8E8-98C2-4F0B-880F-93B02B3F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2E65D-0BCD-4E47-A56D-68F6BB80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31C8B-4C95-4693-91B6-367BCBE9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6BA66-8D78-41EB-B814-EBC05B5B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661DF-3800-4FD4-A0D9-F475E23D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FE1821-B5F9-4948-B935-3A786F6F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62DA-D6E7-49FB-B853-F99D0EC5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6C9164-A729-46FB-AAB4-4F60D5D9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4D1DB5-8136-4568-A3E4-68886A2A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A7E6A3-1431-442C-937F-29D7DBAC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7C0B5D-8D4F-4A51-AC37-62B6B096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472873-B3DE-42B9-B5AB-0DE94571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A1B56C-3D8C-4AF9-9639-B3F32074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84B878-6DAD-4CFA-936C-3FD216B2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A95809-5B88-4D42-A534-EE2EB10F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DFCFDA-E723-4EA7-9027-3B45B320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6EFAAE-B0B3-4127-8162-E395256C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2E27-5FA8-4C39-950F-03158E7E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DA309D-39DE-47D5-A0C1-C59738D6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686F7-AE5F-4AFF-A62B-50CC6531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C0594-B5A9-4658-AAB4-CFF8D51B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9F9AF-56D0-4CF4-A558-8285836D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7D394-3D63-4DC1-8A7E-066D2915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0FD11-5082-44C6-B537-39BB33BC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C3C73-A08A-4F36-9499-EE6AE3E1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599F3-CA67-4CD1-84FE-0E5076DF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ACCD9-46C5-4F6F-BD63-121EDA51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6AD31-6E0D-4C37-8B25-0400B66F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80A2-AA74-40A1-A5FB-BB26DA61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6302D-5AA9-4E4A-8226-7F47A6DB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762AA-1B98-4DA0-9CD2-05ABF892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0C9AB-DF68-4803-A974-CAB6E397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F3977-95AF-44B8-8F46-E16DC98B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03367-D98D-476D-AF01-BBC7F56D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28AA6-1E5F-49EE-B869-98A5B2B3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09922-7AE8-4227-8A55-311C4A71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CC96A-AEFF-4B38-A470-3A059357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1851A-AAD1-4FD5-9517-456AF142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8114D-CDED-4A4D-9223-37C1F521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514E-505E-43B2-9A9D-26473F2D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0A13B-A396-46F7-B4DC-ABFEC6C7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BA207-8B19-46E9-9A98-DAED84DD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9A989-7731-403F-B870-52EB4339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35733-5624-4AA0-B024-D6C8C19B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662AA-9564-4ED6-9C40-7ED7BC52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1EB56-8531-425E-B030-6B257B45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98087-848D-41C2-8AD7-6D017048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75F03-1D38-418A-8540-88CF6B24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21DE0-52CF-470E-856F-8F336681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46E0F-F4B8-4E2F-9A01-8CFCEF13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0653-4735-47AA-B3EB-EB91D0F3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91B49-CFAE-4FC8-B5DD-86307269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22253-0313-4117-A9BD-330D8F67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48F1D-267E-43B1-94A9-E514248B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0D080-C8BB-4848-855B-951AC164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1E017-D2D1-4763-95CC-7D6816F1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47ECB-0A13-4B54-BBDF-67CC8F12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E96DC-072F-4187-AF0E-E80D86FA7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F346C-18BF-44D0-80DF-8326C9B4D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9B480-F965-48EB-AC85-A5822EA7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14A38-B525-4973-898D-97AB623F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557D-258D-4987-B826-200F3664B5A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C1F8-F580-41D0-A763-4E2E30EB85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28F8-B98C-46A6-BC1F-B80F1246F90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9BF6-D2D2-4DEB-9199-F49D2E7D8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BADE-B902-4918-A7AA-AF03AFC1E4D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E843-BCCA-4C84-A4ED-16AB763F720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23B2-27A2-48B6-8BAC-502515FA917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0134-C5D3-4816-9D75-F3BEB4561FE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9AE7-0E8A-4B50-A175-9EA915E103E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5FF1-FE60-4689-9F6B-0E9C232AF3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C8C3-ADA3-4013-992B-560F8B0C0B4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3C1A-D2D7-43BD-8D2E-746C9E08E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B5EA-20FF-4EE9-A0E4-E943F85B10A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0ED1-3DFC-400C-BD32-80EDA9B0B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6AA2-BBD3-445A-8166-49BAA8808CE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A6A5-E53E-41B9-A135-59E0C4076DA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C107-08D5-4963-A80B-C582626D9E5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C5A4-D5EB-48E8-BB70-E17F396ADA6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63EC-9197-4FC2-A1BE-69E7CDC76F9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DF2E-9123-4850-B8E9-4678DDD161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C7C6-F4BC-44E1-B22E-D7CC43554DB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D8AA-AACD-4F6A-B409-A538785E76A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FA83-C0B0-411C-816F-1AE809CF864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D12D-F7E7-4974-9FC9-412825A03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4928-B9F6-46B4-96FC-C58D54048B1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BF738-5882-4421-8CFC-9796FF6579A7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A9DC7-3371-4917-AEB8-F6A775E16B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C24BD3F5-A4E9-4A85-A2A5-19E6F4FAE5F6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11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63C00-4DDA-4B35-B78A-B145C8075809}" type="slidenum">
              <a:t>3</a:t>
            </a:fld>
          </a:p>
        </p:txBody>
      </p:sp>
    </p:spTree>
  </p:cSld>
  <p:transition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911A2C-E4B9-4F71-AD6F-EB9AA59AF01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84F17C46-DB56-4F4B-8318-0798227FCEF3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F0777-EEF8-4FD3-94E8-7046A2AA96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49208D86-AC7E-462C-877D-264B8A61B313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8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9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F10C2-C3EA-4E1E-9814-ACE657FA66D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22F5F934-BA82-4C34-9812-D0CF5462ACAE}" type="datetime1">
              <a:rPr lang="en-US"/>
              <a:t>07/31/26</a:t>
            </a:fld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